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F1E-E5BC-4D63-8C28-F0D74E0C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D5F-E045-4E11-9B04-CBD61941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5ED-C713-445B-BE3C-0C3FF523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44B-1F48-4454-907F-BB945EE8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9F2C-3CDC-4BAE-A8FB-2FCF9A7B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1FF-E345-4962-AA9E-A68A4C51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D5A8-089F-4707-AF82-441E602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B4C6-5FA1-461B-BCFD-89119515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7F4E-E823-4BFC-B8F6-B417AF23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3F4B-D1B2-4A81-AD0E-2B6341B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BC59-2B10-4DAF-97CE-DEA44EA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BAF-88D1-4CA4-93A3-097E5084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6A08-71DC-47BB-9465-A8547758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E2E4-B54E-4C32-8A05-B92AE31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AFFC-C0CA-4C33-AB91-50CA16EF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65D2-EA94-41CB-BDA4-21F6EFA6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470-F916-464B-8FFA-44C2FA7B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19E-047C-4A12-B496-C9AAEA23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C59-B183-4288-91E4-B016FF3F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7D6-610C-45ED-9E11-7B2B0EBD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8F1-08CF-4FF8-B11E-20A4150A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1BE-C238-4FF8-BA33-16FCF6AA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B5C-2D34-4D58-AD68-7B0F657D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504-8B15-4DB5-93E0-999460E8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6831720"/>
                  <a:gd name="textAreaBottom" fmla="*/ 6832080 h 68317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3ED3-F7FB-4BAA-9028-78C8564AA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B159-C743-417A-87FB-8911927E4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28440"/>
            <a:ext cx="833616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Positive Pressure Ventilation: The Basic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amita Kuruvilla, M.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ritical Care Cour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Assist Control (AC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initial mode in our I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fill out vent order form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l Volume (usually 10 ml/kg ideal body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 Rate (usually 14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O2 (usually 100 % at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P (positive end expiratory pressure, usually 5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breath receives the same tidal volum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gardless of preset r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breaths get the sam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End-Expiratory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stent: minimum pressure used to “stent” the airway to prevent alveolar collapse/atelac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P = ____?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ist Contr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11" descr="AC Scalar"/>
          <p:cNvPicPr/>
          <p:nvPr/>
        </p:nvPicPr>
        <p:blipFill>
          <a:blip r:embed="rId1"/>
          <a:stretch/>
        </p:blipFill>
        <p:spPr>
          <a:xfrm>
            <a:off x="2643120" y="1981080"/>
            <a:ext cx="483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2 – 68 yo M HD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t is still intubated and on AC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=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to open eyes intermit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55/28/6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, he’s overbreathing the vent; his rate is 40.  Do we sedate him mor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Synchronized Intermittent Mandatory Ventilation (SIMV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ord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, tidal volume, RR, FiO2, PEEP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Support (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ilator breaths receive full tidal volu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 to the se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patient breaths do not get the full tida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breaths get PEEP +/- pressur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sure Suppo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sible in IMV and 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ra pressure above the PEEP used to provide additional inspirator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vary from 0-2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9" descr="SIMV + PS + PEEP"/>
          <p:cNvPicPr/>
          <p:nvPr/>
        </p:nvPicPr>
        <p:blipFill>
          <a:blip r:embed="rId1"/>
          <a:stretch/>
        </p:blipFill>
        <p:spPr>
          <a:xfrm>
            <a:off x="1981080" y="1600200"/>
            <a:ext cx="57769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3 – 68 yo M HD#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s still on SI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is alert on his daily awakening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 is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is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n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taibi, G. Ventilator Graphic Waveforms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 and PS/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Picture 15" descr="CPAP Scalar"/>
          <p:cNvPicPr/>
          <p:nvPr/>
        </p:nvPicPr>
        <p:blipFill>
          <a:blip r:embed="rId1"/>
          <a:stretch/>
        </p:blipFill>
        <p:spPr>
          <a:xfrm>
            <a:off x="914400" y="12952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PS + CPAP Scalar"/>
          <p:cNvPicPr/>
          <p:nvPr/>
        </p:nvPicPr>
        <p:blipFill>
          <a:blip r:embed="rId2"/>
          <a:stretch/>
        </p:blipFill>
        <p:spPr>
          <a:xfrm>
            <a:off x="4876920" y="30481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now…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concept of positive pressur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most-commonly used ventilator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atient case and appropriate mod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on the ventilat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Venti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non-invasive ventil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facial mask with bagging, BiPAP or CP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nvasiv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via endotracheal tube or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ory of PP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: Andreas Vesa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pening must be attempted in the trunk of the trachea, into which a tube of reed or cane should be put; you will then blow into this, so that the lung may rise again…and the heart becomes strong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0-1950s: Polio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 outbreak overwhelmed iro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s: First PPV machine in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gative Pressure = 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normal breathing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phragm contra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ega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sucked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is sucked in to return to the he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creased venous return / increased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= Ab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pushed in by bag/mach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osi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lood can’t get sucked in to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contractility: pressure squeezes heart during sy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oad effect predominates if hypovol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ing on to the Ventilator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Content Placeholder 7" descr="Puritan Bennet vent 840.jpg"/>
          <p:cNvPicPr/>
          <p:nvPr/>
        </p:nvPicPr>
        <p:blipFill>
          <a:blip r:embed="rId1"/>
          <a:stretch/>
        </p:blipFill>
        <p:spPr>
          <a:xfrm>
            <a:off x="2035080" y="1501920"/>
            <a:ext cx="558504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ntilator Mo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-based Ventilatory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: Assis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V: Synchronized Intermittent Mandatory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/P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1 – 68 yo M COPD in 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D “Triage”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intub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O2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l steroid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: RR 40, chest “clear”, falling asleep but can do 1 word answers when aro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25/90/&lt;48/35 on 4L n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6:30:21Z</dcterms:created>
  <dc:creator>HCMARTINEZ</dc:creator>
  <dc:description/>
  <dc:language>en-US</dc:language>
  <cp:lastModifiedBy>HCMARTINEZ</cp:lastModifiedBy>
  <dcterms:modified xsi:type="dcterms:W3CDTF">2009-06-04T23:30:47Z</dcterms:modified>
  <cp:revision>17</cp:revision>
  <dc:subject/>
  <dc:title>Positive Pressure Ventilation: The Basics</dc:title>
</cp:coreProperties>
</file>